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370-5C7C-4980-A8F3-3BB496AB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FA8-A976-4BAF-9F97-2D9F648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839DA-F441-48B8-82BA-68C5D064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50BF5-1708-459D-A4D8-C343673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4CBC6-658B-4561-A81D-883049E0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3042-2FA5-4946-A888-2328914D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B5343-D239-4F0D-9119-6425D7A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43659-0D7B-4981-B3BC-55B9762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7906C-3F3F-4B23-98DB-193DCCF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C291-70C9-48A1-B2E3-AE2C632B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7F062-E9B5-458A-A41D-8502BD29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01A48-C376-49D0-A536-E0AAC43D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05D-F9B8-4FC3-A0AF-E39F61D2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656ED-9099-41C6-86B0-A9590DE1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521D4-F572-4EFA-A7F1-FBE1566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5CCF4-6B3A-4C2B-9772-6613A363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6BB47-27F5-4055-839F-FD587BDE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91113-ACDC-49E5-95A8-0D2F040F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EBC14-0066-467B-8DA7-A9ED933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1BF10-DF5A-4A58-B741-823377C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D1592-8438-4489-BFD0-DAA97EE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D6DBC-7846-49B1-8E45-E50DA94A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23A76-179A-42FA-9F76-8F6ABC51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D14-EBB0-4C4F-9990-1060C75E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13F6F-562A-49FE-9BE7-F08F9ABF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14057-92C5-4DA5-8A3B-0A65F606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4952B-C6F5-4DA5-890D-5610B1B6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B90D8-BB0F-4032-870D-21B5E7D8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5F745-C80D-4613-B815-04F841BF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EF39-F48A-4185-865A-4B80140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5C43A-46F8-4DBC-B0A9-221C7211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C7365-538C-4A00-927B-66699E1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E4DDD-D5F2-4A50-B2A3-39B9D7E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16D90-7571-48F9-B554-4AEBE44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CA22-68E1-4F09-BF37-5002F253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6D7C2-F2E8-43C2-91B8-9A37E30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AAF59-AB2A-4466-BEF5-B599602C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BEFAE-DD19-4962-B409-C450C2BD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73674-F8D4-465F-B23F-7665D208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FBB63-FC2E-4151-A26D-5A03263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77C89-B910-4C76-9444-F29B9B3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D816D-513F-47F6-9A44-2680606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75B6A-B33B-41A5-80F3-6B45FEB9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95D9E-92FB-41E1-949A-E3E2835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CB051-E017-4FA9-A6EA-19D9E3E5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D471-CA60-470D-BF53-3DCA42A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E0877-D2B5-43C1-A532-3DE23BA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6EF55-4B63-4FCA-A0C0-7B94138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86C2C-9777-4934-81BA-0796B191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A5453-1894-4EFA-A5F5-5A6F6323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F7C5E-CFCA-4925-801F-014534BB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755CD-23B0-4F7B-ADA4-6CCCAF2F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F69EF-500F-4F9D-ACBC-5304E5F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AA444-E05C-49EB-934B-CC9405B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52C07-CA65-4B05-8464-93BE9902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AF64F-A11E-4B6C-86E6-B375499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ADCD-E255-4E99-86CF-1527902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F5958-2366-4757-A98D-248DB03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33850-968E-4E43-B4FB-99139C1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BC728-8BFE-4E8A-90DA-4352B9A3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DA87A-00AB-4078-BCAE-70BD98D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7981E-A589-4C27-BC25-B4467CB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DD7CB-0E5C-4A0D-99B3-D5D7AC59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1209D-3BDE-49A4-8DEB-ED246B55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CA870-BDE2-43ED-A88A-D8A824CE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4F266-CC91-40FB-8308-5BB3C631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67AE2-7505-4B3C-8F1E-69BB1C5C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B9E1-0173-4CA1-9279-A4A46A2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A1A61-B6F8-48E0-B478-B3B3B0B0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0CBB1-0BB9-40DB-82AB-7AC8421D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50B9B-A3A1-4279-B93C-97C8C986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3CEAE-E706-40EA-96E0-0EB36D6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D4FF4-D8C0-419F-A39D-65DC163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A4FE7-2F06-419F-B241-1C100AF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7C714-F287-444E-B62B-5848B2FF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48446-DB28-4F5A-AA5D-C32C60AF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680D0-95DE-427D-A05E-783F2E37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6E00F-FE75-4182-AFC1-8DFF9F1E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4BE-D258-41D4-9D9C-2AFC4981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92525-FA95-4C2D-83B9-34FEA6D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5DDD5-F97B-4082-980E-AFFB1E1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3C5ED-DEB4-467B-9701-9AF5DE1D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462BE-485E-436F-800A-3439D8C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CE51F-8F3A-4D19-A023-6BBBD54E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5B45C-9388-47CD-9BDC-19C2B4F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5D046-7547-404C-8586-3E5F3AA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C02F8-74CC-4551-8FC3-AE01111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94A0C-9785-4360-9900-74F343FE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28CD9-5ECE-46F4-B11F-5F2FBC69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1D75-44F5-4055-9B7D-1D371B9C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75124-DBFC-4EE0-B5B8-01ACB9A6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CD884-884B-43CE-AFB6-0845A561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6EF3D-456E-47E2-9ADF-91418F01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31464-C3EB-4054-A9F6-89EF85E2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6CFF9-DED0-41A9-9D54-6320026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98749-C052-4470-B0AE-8FEA33CA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B81C9-A22D-4411-ACBE-920980B2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76BA6-0DC4-4489-A678-8DD9D54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42C93-A9DC-4A06-AE19-277C776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79F7A-A32B-4626-AD33-0EBD7BC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EAC2-19E2-4066-890D-6A3F95E0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22AE2-8169-4755-8F9C-B904AAC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A57E9-0C4C-4A32-8508-E46435D5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EFCFD-FFC2-40AC-AC00-2C2AEA5D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595DC-D556-4656-B410-186E38D8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C3770-49AE-4E9C-A1BF-A56F020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7458E-A266-4395-841B-AA278E0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A1A9F-C64D-45C7-8DD8-25E9951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B3A38-55F4-4C3D-BBE3-4092998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6D0E1-92FE-4F51-B797-701F7A90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67E04-B801-44E1-8A9B-8AF8198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5B2-6DE7-4326-A142-4C30951F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49D8-7F2E-4760-9FED-1493A8E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7F167-62B8-49E8-BD85-D4CAB48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0BF51-9D6D-4B7D-A30D-C9F9B0EA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8AE1F-A90D-4BEB-8DE9-57F923B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3EA9D-AE4D-4BE1-BFC3-14C7343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D53D1-8191-4DA6-99F7-DD9F1DB4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7C0D7-BFAF-41A9-A055-824F73B5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EC94D-A691-4046-B115-E7F1656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D249E-4A89-4CC0-BEB5-17F28D4D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37DF40-019D-4C90-AF45-7385F0B4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F0ABD-124C-424B-B9CD-C3B2220D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023B-9BF8-4DB9-9BB6-E27B9E6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6B39F-90ED-47B9-9EF7-9486833D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545A6-EFA1-4781-839E-1BF1E24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4C48A-EF4B-47A7-93A0-A9A741A3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FBBA3A-1543-4C82-9850-5F1866D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F4153-5993-4C5D-8D1D-7F71398F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DF76E-4872-481C-9FB0-DB4F47DB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50E41-8675-4D3F-8FE7-EB6BBBEA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6EC21-280F-4820-BF22-C458FEA2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73DEE-4B61-4AED-9981-9F7A6258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771B3-C6F6-4E8D-84CF-350E5733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E6F6-2ECC-4BB0-BEA1-8E664533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2DF460-498A-4955-B4A8-CAD48C2A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96FC0-89BF-4C0A-9E6F-2F30AA0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0FEA7-0DAD-4A50-82E9-3A6634B9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9C67B-7E98-49A0-BA5E-131CACD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6CD00-F1F8-470B-AEE3-C517567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B6DB4-E2F5-4D65-A0C7-C4BAE50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7EE93-20B9-4A50-A892-F3E72A04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B83EB-92B5-46F1-9420-EB2CE703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7D0F8-A41F-4A4B-8276-12695367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98B3F-8B59-4885-AA58-7BB19392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1670-FA5D-4F80-907F-A20BE333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1EBD8-D1ED-4649-9896-51F29824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6B5BE-1540-42F9-A530-9F7B19FC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765A1-5DA8-4B7B-8869-7C1FEF8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56EB3-873A-48CA-9071-8634585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85755-72DC-4591-B30B-9499ABF0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11BCC5-6BF0-4E67-A8E8-60D4556E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FA505-2100-4B25-8B0D-12E0D28E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19F2D-F7D3-40F6-BC34-EB5A680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45EF3-C2CD-4030-9351-844EBAB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DC390-BC9D-4CC0-A036-497AAB48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39EA-7EBC-4F4F-A942-4D11060F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6F18B-B9EA-41B1-B517-3AAB2229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26F21-C4A3-489C-BB91-B1A8B208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739B4-AB9E-4B2B-BB84-C87B80D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54449-7068-452C-AFB8-2741C08B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CE5AA-C26B-49F8-AEC8-7B94795F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657D39-F84C-4BFB-A358-557693D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49D30-8A88-453D-B866-385119E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5D56A-0C72-4369-AD87-19A892B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E9998-0D75-4D4E-B7B2-1629279A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74F586-8334-42C1-8C26-81D9B2B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3821-EBBF-4CC2-BE74-7018D756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DD574-01F7-4BC2-8FFC-3285E69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1BE79-7A4E-4039-822C-E5D9E456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FDE1F-E1F3-43C2-A161-492585AC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EB6C-B6FD-4B70-9E6A-99A2E33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9E95-F802-4A74-8838-E1F7F624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C1C9-76A0-4F96-9327-64B5A79C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0E2E-9573-4325-A4A6-7AF5067A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129-ADCC-4A27-82FE-1A4358AA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11F6-6DB2-456B-9323-D8AFE12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AF6D-D899-429D-88DD-E39BA91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6ED6-54ED-468A-811E-EC4DD9A6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9681-8DB1-412C-9655-2BD0813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813D-FFE5-4E25-9131-AF80CAB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AF59-DB19-45EE-86B2-9C71A14C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7D93-AF58-43E8-B8A5-779BC484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7832-EA3C-4192-9C60-C3D7AEA2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8638-88A4-44A4-8052-6AD6D18E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8B45-B0E9-4B94-90F6-EF507E66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B9E-54BF-49A8-85AA-A1315CB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E218-5ABE-4716-A2E2-FAE2009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183A-9917-4676-8F72-2F1641C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D160-F71E-4760-B2A8-B704C264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6591-4C20-48AE-BC3D-70944120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FD78-DF0E-4E7C-960A-9048607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88B1F-E247-404C-9C8C-F53B067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BDD4B-4201-4706-8569-9A1F76FB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A8D65-0E8E-4622-8DE0-04B46FD9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63EA-7F22-464B-99CE-23BF25F8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7F75-8A78-47EA-B4FE-A804BD22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0A3-056A-4912-9BD3-61AF67E6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FF2A-91DE-4C79-8E17-42E0269C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8D1C-A6C1-4193-8E62-3681D4A8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F1BE-79F4-4B56-89A9-0892BEC4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CE773-8F85-48ED-B889-CD93D549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574C8-1658-405D-888C-AA0A55D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9762-D63E-453C-92BC-0941DD4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27E1-8345-4374-931D-42F034AA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1D18-4C19-4546-8804-1264D731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E5E25-468A-482F-9D2E-7577202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2EF14-D46A-412B-AF30-F461DFC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B0C-72A4-438D-ADFC-D6B42B65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FDA62-BFDF-466D-AA1A-15F9D0E8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3C10-A093-44C3-A223-78D22A25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E0DB-E0BA-4FCF-9267-1108BCD4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DC01-6071-426D-9103-D44930E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54B1-EF70-4323-824B-6966CA76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D350-F716-4719-AB15-023FFFA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1B5C-A142-48C8-A3EC-2C01D28C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99FA-FE57-4162-831E-05E8E51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452A6-B0CD-4F01-A6E8-DE6CBD3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05D26-09B4-4FBD-A518-69B679E6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EAB-0BC7-4869-908E-0EB1C56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A953-3676-403C-AF80-36E9EC0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04B7F-223D-4E5E-B97F-26AE3A0E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65141-80A8-4B64-BF0E-E964D1BD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6819-D516-4772-A638-D68B2566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7B37B-E6CD-49D9-8E7E-31586C2A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CF21-7ED3-4E9D-A2EE-B48FAE5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4886-BECF-43EB-BC8E-A06B9614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C9D1-05BE-4ADF-A193-2FBA05B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7FC6C-65D3-41F6-8733-CA3BFD5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7E138-BAB8-40AA-9A62-31192A37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637-714A-4123-948A-D528A1E5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9E11-20ED-4BB8-8C6E-EDEAE10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23D2-6E8C-43A0-BB0E-8399A53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7BEB-26DF-4228-8194-98791B0B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1CFCF-05AC-4338-A09F-65682A4C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5FAE-64DE-4F14-A593-A1F2DFB2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4EBC-B986-44F1-870A-01CB9668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6213-D9D0-46C1-8245-3C91D62C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1E4A-B734-4AAF-9A97-04CC8DBB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7C6F-282D-484C-8DF6-05D1600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FD00D-E332-45B4-8B50-D39CF210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BCF-F075-40E6-BDBA-8676343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A16A-6F14-4716-AD9A-24FE7253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A0092-AA1B-44B1-8422-2F2538D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F52E-21EF-425F-AC3E-2C619B9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478FB-1A46-4BA5-A385-28196B7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C05B4-53DE-4EB6-8B83-006844FB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C7E0E-2E79-4CD3-8C74-67EB7CB1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C0C04-2F03-4DDF-91A1-4CB0E788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20688-241C-46B7-9ED0-51EC1F75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2F3EA-E293-406F-9009-A5968E3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D930E-58BA-47E2-9333-059BF9F3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F28-7A6B-4684-BC8F-BBA9C97E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1C0-929F-4B0D-B2E7-2ACE4A245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64FB-E558-45FB-BB98-A4546EFF7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D256-FC81-4A6D-8E20-3272365E7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E52-56BC-4D10-AF7A-E100FB90C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F0C-6211-4EC9-8A14-C838BAF194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56A9-D349-42A9-8FAB-14361EC6E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CAD1-7C6B-4E14-AB61-6850C43D1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9D8-7349-4129-AB03-020C6B72C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04D-0233-4A3D-B4AC-56C849D766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092-FE99-4B34-9382-BE1A2E266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397-B064-4EA5-BC85-88C6F1097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1BD-C98D-4759-A703-D1223ECED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08C-5158-475F-8A24-E86D180488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203E-596E-4295-8FD0-26660741FB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737-76B3-4DA4-9D7D-3DE458D51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BE53-1F0D-4946-949D-26B1CB29C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E05-C582-448F-AA8B-B0F78A33CA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ADAA-86C9-499D-9E71-D4C119449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57F3-D872-492D-91C8-D78401298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7666-E34C-4591-810F-270060ABC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991C-20CF-4847-8E09-59B6350181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79B2-4F56-43F6-B8ED-17C3D07B3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0DB9-25B5-4E8D-BB1F-0BB06AC14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693B-0EB9-4587-AFC5-950AA491F6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7B9-1725-41F4-A840-8377055F3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7FE-B1D8-4A5B-A327-3C08901BAB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96FA-4746-4309-B088-3DE596F1B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FEA7-174D-4CA6-AD01-0D54AFFA7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F33E-5999-4B9B-BBF2-B0D96C200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FCD4-41EE-42E5-AD32-A274A754E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41A8-1518-4503-AD8E-A0233F058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A86-B949-4DEB-9545-CFB8F6525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931-1BA2-4E41-8597-1C07C53F2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D1D-A14E-4544-9A69-7E3228EF28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B39A-CE92-4E39-B29B-670AAB99C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5E8-F227-48BF-83E1-FF019415A1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841-36CF-4E4A-B145-D2B68F66A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45C-3D8B-4F48-8020-85A2CEE0A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7006-78FF-4750-A7CF-2E39C16FB6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500200" y="2500200"/>
            <a:ext cx="4219560" cy="781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3" descr=""/>
          <p:cNvPicPr/>
          <p:nvPr/>
        </p:nvPicPr>
        <p:blipFill>
          <a:blip r:embed="rId2"/>
          <a:stretch/>
        </p:blipFill>
        <p:spPr>
          <a:xfrm>
            <a:off x="2071800" y="3500280"/>
            <a:ext cx="501012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514440" y="714240"/>
            <a:ext cx="8115120" cy="45151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2" descr=""/>
          <p:cNvPicPr/>
          <p:nvPr/>
        </p:nvPicPr>
        <p:blipFill>
          <a:blip r:embed="rId2"/>
          <a:stretch/>
        </p:blipFill>
        <p:spPr>
          <a:xfrm>
            <a:off x="285840" y="5272200"/>
            <a:ext cx="8505720" cy="1514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3"/>
          <a:stretch/>
        </p:blipFill>
        <p:spPr>
          <a:xfrm>
            <a:off x="285840" y="722160"/>
            <a:ext cx="8280360" cy="392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4"/>
          <a:stretch/>
        </p:blipFill>
        <p:spPr>
          <a:xfrm>
            <a:off x="270000" y="1208160"/>
            <a:ext cx="8278560" cy="392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5"/>
          <a:stretch/>
        </p:blipFill>
        <p:spPr>
          <a:xfrm>
            <a:off x="252360" y="169380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6"/>
          <a:stretch/>
        </p:blipFill>
        <p:spPr>
          <a:xfrm>
            <a:off x="307800" y="2179800"/>
            <a:ext cx="8280720" cy="392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5" descr=""/>
          <p:cNvPicPr/>
          <p:nvPr/>
        </p:nvPicPr>
        <p:blipFill>
          <a:blip r:embed="rId7"/>
          <a:stretch/>
        </p:blipFill>
        <p:spPr>
          <a:xfrm>
            <a:off x="291960" y="2673360"/>
            <a:ext cx="8278920" cy="392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8"/>
          <a:stretch/>
        </p:blipFill>
        <p:spPr>
          <a:xfrm>
            <a:off x="274680" y="3159000"/>
            <a:ext cx="8280360" cy="392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"/>
          <p:cNvPicPr/>
          <p:nvPr/>
        </p:nvPicPr>
        <p:blipFill>
          <a:blip r:embed="rId9"/>
          <a:stretch/>
        </p:blipFill>
        <p:spPr>
          <a:xfrm>
            <a:off x="258840" y="3645000"/>
            <a:ext cx="8278560" cy="392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10"/>
          <a:stretch/>
        </p:blipFill>
        <p:spPr>
          <a:xfrm>
            <a:off x="241200" y="413064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11"/>
          <a:stretch/>
        </p:blipFill>
        <p:spPr>
          <a:xfrm>
            <a:off x="297000" y="4626000"/>
            <a:ext cx="82803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1" descr=""/>
          <p:cNvPicPr/>
          <p:nvPr/>
        </p:nvPicPr>
        <p:blipFill>
          <a:blip r:embed="rId1"/>
          <a:stretch/>
        </p:blipFill>
        <p:spPr>
          <a:xfrm>
            <a:off x="552600" y="1023840"/>
            <a:ext cx="8038800" cy="5477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2"/>
          <a:stretch/>
        </p:blipFill>
        <p:spPr>
          <a:xfrm>
            <a:off x="431640" y="2557440"/>
            <a:ext cx="5118120" cy="392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" descr=""/>
          <p:cNvPicPr/>
          <p:nvPr/>
        </p:nvPicPr>
        <p:blipFill>
          <a:blip r:embed="rId3"/>
          <a:stretch/>
        </p:blipFill>
        <p:spPr>
          <a:xfrm>
            <a:off x="415800" y="3043080"/>
            <a:ext cx="5118120" cy="392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4"/>
          <a:stretch/>
        </p:blipFill>
        <p:spPr>
          <a:xfrm>
            <a:off x="399960" y="3529080"/>
            <a:ext cx="5118120" cy="392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5" descr=""/>
          <p:cNvPicPr/>
          <p:nvPr/>
        </p:nvPicPr>
        <p:blipFill>
          <a:blip r:embed="rId5"/>
          <a:stretch/>
        </p:blipFill>
        <p:spPr>
          <a:xfrm>
            <a:off x="382680" y="4014720"/>
            <a:ext cx="5118120" cy="392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6"/>
          <a:stretch/>
        </p:blipFill>
        <p:spPr>
          <a:xfrm>
            <a:off x="438120" y="4500720"/>
            <a:ext cx="8099280" cy="392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7"/>
          <a:stretch/>
        </p:blipFill>
        <p:spPr>
          <a:xfrm>
            <a:off x="422280" y="5057640"/>
            <a:ext cx="8099280" cy="3924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8"/>
          <a:stretch/>
        </p:blipFill>
        <p:spPr>
          <a:xfrm>
            <a:off x="404640" y="5543640"/>
            <a:ext cx="8101080" cy="392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9"/>
          <a:stretch/>
        </p:blipFill>
        <p:spPr>
          <a:xfrm>
            <a:off x="388800" y="6029280"/>
            <a:ext cx="80996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1" descr=""/>
          <p:cNvPicPr/>
          <p:nvPr/>
        </p:nvPicPr>
        <p:blipFill>
          <a:blip r:embed="rId1"/>
          <a:stretch/>
        </p:blipFill>
        <p:spPr>
          <a:xfrm>
            <a:off x="357120" y="1052640"/>
            <a:ext cx="8420040" cy="29239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"/>
          <p:cNvPicPr/>
          <p:nvPr/>
        </p:nvPicPr>
        <p:blipFill>
          <a:blip r:embed="rId2"/>
          <a:stretch/>
        </p:blipFill>
        <p:spPr>
          <a:xfrm>
            <a:off x="785880" y="4071960"/>
            <a:ext cx="79437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1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210520" cy="48769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"/>
          <p:cNvPicPr/>
          <p:nvPr/>
        </p:nvPicPr>
        <p:blipFill>
          <a:blip r:embed="rId2"/>
          <a:stretch/>
        </p:blipFill>
        <p:spPr>
          <a:xfrm>
            <a:off x="98280" y="1357200"/>
            <a:ext cx="5848560" cy="392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3"/>
          <a:stretch/>
        </p:blipFill>
        <p:spPr>
          <a:xfrm>
            <a:off x="82440" y="1843200"/>
            <a:ext cx="5848560" cy="392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4"/>
          <a:stretch/>
        </p:blipFill>
        <p:spPr>
          <a:xfrm>
            <a:off x="65160" y="2328840"/>
            <a:ext cx="5850000" cy="3920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5"/>
          <a:stretch/>
        </p:blipFill>
        <p:spPr>
          <a:xfrm>
            <a:off x="120600" y="2814480"/>
            <a:ext cx="5848560" cy="392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5" descr=""/>
          <p:cNvPicPr/>
          <p:nvPr/>
        </p:nvPicPr>
        <p:blipFill>
          <a:blip r:embed="rId6"/>
          <a:stretch/>
        </p:blipFill>
        <p:spPr>
          <a:xfrm>
            <a:off x="247680" y="3284640"/>
            <a:ext cx="5848200" cy="3920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7"/>
          <a:stretch/>
        </p:blipFill>
        <p:spPr>
          <a:xfrm>
            <a:off x="295200" y="3794040"/>
            <a:ext cx="5848560" cy="392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5" descr=""/>
          <p:cNvPicPr/>
          <p:nvPr/>
        </p:nvPicPr>
        <p:blipFill>
          <a:blip r:embed="rId8"/>
          <a:stretch/>
        </p:blipFill>
        <p:spPr>
          <a:xfrm>
            <a:off x="422280" y="4352760"/>
            <a:ext cx="5848200" cy="7178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9"/>
          <a:stretch/>
        </p:blipFill>
        <p:spPr>
          <a:xfrm>
            <a:off x="422280" y="5149800"/>
            <a:ext cx="5848200" cy="392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5" descr=""/>
          <p:cNvPicPr/>
          <p:nvPr/>
        </p:nvPicPr>
        <p:blipFill>
          <a:blip r:embed="rId10"/>
          <a:stretch/>
        </p:blipFill>
        <p:spPr>
          <a:xfrm>
            <a:off x="476280" y="5635800"/>
            <a:ext cx="80326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1" descr=""/>
          <p:cNvPicPr/>
          <p:nvPr/>
        </p:nvPicPr>
        <p:blipFill>
          <a:blip r:embed="rId1"/>
          <a:stretch/>
        </p:blipFill>
        <p:spPr>
          <a:xfrm>
            <a:off x="500040" y="723960"/>
            <a:ext cx="8034480" cy="60912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5" descr=""/>
          <p:cNvPicPr/>
          <p:nvPr/>
        </p:nvPicPr>
        <p:blipFill>
          <a:blip r:embed="rId2"/>
          <a:stretch/>
        </p:blipFill>
        <p:spPr>
          <a:xfrm>
            <a:off x="500040" y="4587840"/>
            <a:ext cx="8032680" cy="3906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3"/>
          <a:stretch/>
        </p:blipFill>
        <p:spPr>
          <a:xfrm>
            <a:off x="627120" y="5073480"/>
            <a:ext cx="8032680" cy="3906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4"/>
          <a:stretch/>
        </p:blipFill>
        <p:spPr>
          <a:xfrm>
            <a:off x="754200" y="5486400"/>
            <a:ext cx="8032680" cy="392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5"/>
          <a:stretch/>
        </p:blipFill>
        <p:spPr>
          <a:xfrm>
            <a:off x="738360" y="5972040"/>
            <a:ext cx="8030880" cy="392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"/>
          <p:cNvPicPr/>
          <p:nvPr/>
        </p:nvPicPr>
        <p:blipFill>
          <a:blip r:embed="rId6"/>
          <a:stretch/>
        </p:blipFill>
        <p:spPr>
          <a:xfrm>
            <a:off x="784080" y="6386400"/>
            <a:ext cx="80330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Picture 1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467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1" descr=""/>
          <p:cNvPicPr/>
          <p:nvPr/>
        </p:nvPicPr>
        <p:blipFill>
          <a:blip r:embed="rId1"/>
          <a:stretch/>
        </p:blipFill>
        <p:spPr>
          <a:xfrm>
            <a:off x="571680" y="1104840"/>
            <a:ext cx="8001000" cy="46483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"/>
          <p:cNvPicPr/>
          <p:nvPr/>
        </p:nvPicPr>
        <p:blipFill>
          <a:blip r:embed="rId2"/>
          <a:stretch/>
        </p:blipFill>
        <p:spPr>
          <a:xfrm>
            <a:off x="554040" y="1224000"/>
            <a:ext cx="8031240" cy="770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5" descr=""/>
          <p:cNvPicPr/>
          <p:nvPr/>
        </p:nvPicPr>
        <p:blipFill>
          <a:blip r:embed="rId3"/>
          <a:stretch/>
        </p:blipFill>
        <p:spPr>
          <a:xfrm>
            <a:off x="611280" y="2043000"/>
            <a:ext cx="8031240" cy="392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"/>
          <p:cNvPicPr/>
          <p:nvPr/>
        </p:nvPicPr>
        <p:blipFill>
          <a:blip r:embed="rId4"/>
          <a:stretch/>
        </p:blipFill>
        <p:spPr>
          <a:xfrm>
            <a:off x="611280" y="2575080"/>
            <a:ext cx="8031240" cy="7682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5" descr=""/>
          <p:cNvPicPr/>
          <p:nvPr/>
        </p:nvPicPr>
        <p:blipFill>
          <a:blip r:embed="rId5"/>
          <a:stretch/>
        </p:blipFill>
        <p:spPr>
          <a:xfrm>
            <a:off x="539640" y="3465360"/>
            <a:ext cx="8033040" cy="770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"/>
          <p:cNvPicPr/>
          <p:nvPr/>
        </p:nvPicPr>
        <p:blipFill>
          <a:blip r:embed="rId6"/>
          <a:stretch/>
        </p:blipFill>
        <p:spPr>
          <a:xfrm>
            <a:off x="619200" y="4300560"/>
            <a:ext cx="8032680" cy="392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5" descr=""/>
          <p:cNvPicPr/>
          <p:nvPr/>
        </p:nvPicPr>
        <p:blipFill>
          <a:blip r:embed="rId7"/>
          <a:stretch/>
        </p:blipFill>
        <p:spPr>
          <a:xfrm>
            <a:off x="603360" y="4786200"/>
            <a:ext cx="8032680" cy="3924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5" descr=""/>
          <p:cNvPicPr/>
          <p:nvPr/>
        </p:nvPicPr>
        <p:blipFill>
          <a:blip r:embed="rId8"/>
          <a:stretch/>
        </p:blipFill>
        <p:spPr>
          <a:xfrm>
            <a:off x="587520" y="5272200"/>
            <a:ext cx="80308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85920" y="928800"/>
            <a:ext cx="8372160" cy="56959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2"/>
          <a:stretch/>
        </p:blipFill>
        <p:spPr>
          <a:xfrm>
            <a:off x="646200" y="3581280"/>
            <a:ext cx="8210520" cy="3906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3"/>
          <a:stretch/>
        </p:blipFill>
        <p:spPr>
          <a:xfrm>
            <a:off x="557280" y="413856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4"/>
          <a:stretch/>
        </p:blipFill>
        <p:spPr>
          <a:xfrm>
            <a:off x="541440" y="462456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5"/>
          <a:stretch/>
        </p:blipFill>
        <p:spPr>
          <a:xfrm>
            <a:off x="523800" y="511020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6"/>
          <a:stretch/>
        </p:blipFill>
        <p:spPr>
          <a:xfrm>
            <a:off x="523800" y="568332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7"/>
          <a:stretch/>
        </p:blipFill>
        <p:spPr>
          <a:xfrm>
            <a:off x="579600" y="6168960"/>
            <a:ext cx="82105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448480" cy="5048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2"/>
          <a:stretch/>
        </p:blipFill>
        <p:spPr>
          <a:xfrm>
            <a:off x="469800" y="4257720"/>
            <a:ext cx="8210520" cy="390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3"/>
          <a:stretch/>
        </p:blipFill>
        <p:spPr>
          <a:xfrm>
            <a:off x="452520" y="4743360"/>
            <a:ext cx="8210520" cy="390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4"/>
          <a:stretch/>
        </p:blipFill>
        <p:spPr>
          <a:xfrm>
            <a:off x="452520" y="531648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5"/>
          <a:stretch/>
        </p:blipFill>
        <p:spPr>
          <a:xfrm>
            <a:off x="507960" y="5802480"/>
            <a:ext cx="82105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38040" y="1119240"/>
            <a:ext cx="8467920" cy="50958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2"/>
          <a:stretch/>
        </p:blipFill>
        <p:spPr>
          <a:xfrm>
            <a:off x="541440" y="474516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3"/>
          <a:stretch/>
        </p:blipFill>
        <p:spPr>
          <a:xfrm>
            <a:off x="452520" y="523872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4"/>
          <a:stretch/>
        </p:blipFill>
        <p:spPr>
          <a:xfrm>
            <a:off x="523800" y="5805360"/>
            <a:ext cx="821052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64440" cy="6000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2"/>
          <a:stretch/>
        </p:blipFill>
        <p:spPr>
          <a:xfrm>
            <a:off x="554040" y="3368520"/>
            <a:ext cx="8210520" cy="392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"/>
          <p:cNvPicPr/>
          <p:nvPr/>
        </p:nvPicPr>
        <p:blipFill>
          <a:blip r:embed="rId3"/>
          <a:stretch/>
        </p:blipFill>
        <p:spPr>
          <a:xfrm>
            <a:off x="536400" y="3917880"/>
            <a:ext cx="8210880" cy="392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4"/>
          <a:stretch/>
        </p:blipFill>
        <p:spPr>
          <a:xfrm>
            <a:off x="536400" y="4357800"/>
            <a:ext cx="8210880" cy="392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5"/>
          <a:stretch/>
        </p:blipFill>
        <p:spPr>
          <a:xfrm>
            <a:off x="520560" y="4906800"/>
            <a:ext cx="8210520" cy="392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6"/>
          <a:stretch/>
        </p:blipFill>
        <p:spPr>
          <a:xfrm>
            <a:off x="592200" y="5408640"/>
            <a:ext cx="8210520" cy="392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7"/>
          <a:stretch/>
        </p:blipFill>
        <p:spPr>
          <a:xfrm>
            <a:off x="592200" y="5848200"/>
            <a:ext cx="8210520" cy="390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8"/>
          <a:stretch/>
        </p:blipFill>
        <p:spPr>
          <a:xfrm>
            <a:off x="576360" y="6397560"/>
            <a:ext cx="82105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09600" y="1000080"/>
            <a:ext cx="8524800" cy="5705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2"/>
          <a:stretch/>
        </p:blipFill>
        <p:spPr>
          <a:xfrm>
            <a:off x="641520" y="2959200"/>
            <a:ext cx="3852720" cy="392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3"/>
          <a:stretch/>
        </p:blipFill>
        <p:spPr>
          <a:xfrm>
            <a:off x="641520" y="3398760"/>
            <a:ext cx="3852720" cy="392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4"/>
          <a:stretch/>
        </p:blipFill>
        <p:spPr>
          <a:xfrm>
            <a:off x="623880" y="3948120"/>
            <a:ext cx="3854520" cy="392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5"/>
          <a:stretch/>
        </p:blipFill>
        <p:spPr>
          <a:xfrm>
            <a:off x="623880" y="4419720"/>
            <a:ext cx="3854520" cy="392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6"/>
          <a:stretch/>
        </p:blipFill>
        <p:spPr>
          <a:xfrm>
            <a:off x="623880" y="4857840"/>
            <a:ext cx="3854520" cy="392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7"/>
          <a:stretch/>
        </p:blipFill>
        <p:spPr>
          <a:xfrm>
            <a:off x="608040" y="5407200"/>
            <a:ext cx="3852720" cy="392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8"/>
          <a:stretch/>
        </p:blipFill>
        <p:spPr>
          <a:xfrm>
            <a:off x="750960" y="582948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9"/>
          <a:stretch/>
        </p:blipFill>
        <p:spPr>
          <a:xfrm>
            <a:off x="735120" y="6307200"/>
            <a:ext cx="82785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366840" y="846000"/>
            <a:ext cx="8410320" cy="5838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2"/>
          <a:stretch/>
        </p:blipFill>
        <p:spPr>
          <a:xfrm>
            <a:off x="522360" y="846000"/>
            <a:ext cx="8278920" cy="392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3"/>
          <a:stretch/>
        </p:blipFill>
        <p:spPr>
          <a:xfrm>
            <a:off x="504720" y="1324080"/>
            <a:ext cx="8280360" cy="3906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4"/>
          <a:stretch/>
        </p:blipFill>
        <p:spPr>
          <a:xfrm>
            <a:off x="631800" y="1809720"/>
            <a:ext cx="82803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514440" y="1190520"/>
            <a:ext cx="8115120" cy="44769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2"/>
          <a:stretch/>
        </p:blipFill>
        <p:spPr>
          <a:xfrm>
            <a:off x="442800" y="2154240"/>
            <a:ext cx="8278920" cy="392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3"/>
          <a:stretch/>
        </p:blipFill>
        <p:spPr>
          <a:xfrm>
            <a:off x="425520" y="2639880"/>
            <a:ext cx="8280360" cy="392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4"/>
          <a:stretch/>
        </p:blipFill>
        <p:spPr>
          <a:xfrm>
            <a:off x="425520" y="312588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5"/>
          <a:stretch/>
        </p:blipFill>
        <p:spPr>
          <a:xfrm>
            <a:off x="409680" y="361152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6"/>
          <a:stretch/>
        </p:blipFill>
        <p:spPr>
          <a:xfrm>
            <a:off x="480960" y="4130640"/>
            <a:ext cx="8280360" cy="3906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7"/>
          <a:stretch/>
        </p:blipFill>
        <p:spPr>
          <a:xfrm>
            <a:off x="480960" y="4616280"/>
            <a:ext cx="8280360" cy="390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8"/>
          <a:stretch/>
        </p:blipFill>
        <p:spPr>
          <a:xfrm>
            <a:off x="465120" y="5102280"/>
            <a:ext cx="827892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347760" y="1000080"/>
            <a:ext cx="8448480" cy="53532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2"/>
          <a:stretch/>
        </p:blipFill>
        <p:spPr>
          <a:xfrm>
            <a:off x="449280" y="4470480"/>
            <a:ext cx="8278920" cy="392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3"/>
          <a:stretch/>
        </p:blipFill>
        <p:spPr>
          <a:xfrm>
            <a:off x="449280" y="4884840"/>
            <a:ext cx="8278920" cy="392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4"/>
          <a:stretch/>
        </p:blipFill>
        <p:spPr>
          <a:xfrm>
            <a:off x="431640" y="5442120"/>
            <a:ext cx="8280720" cy="392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5"/>
          <a:stretch/>
        </p:blipFill>
        <p:spPr>
          <a:xfrm>
            <a:off x="479520" y="5856120"/>
            <a:ext cx="828036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8:10:29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